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9.wmf" ContentType="image/x-wmf"/>
  <Override PartName="/ppt/media/image2.png" ContentType="image/png"/>
  <Override PartName="/ppt/media/image18.wmf" ContentType="image/x-wmf"/>
  <Override PartName="/ppt/media/image3.jpeg" ContentType="image/jpeg"/>
  <Override PartName="/ppt/media/image17.wmf" ContentType="image/x-wmf"/>
  <Override PartName="/ppt/media/image14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1964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704000" y="6552720"/>
            <a:ext cx="144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F3D2-741F-4043-9A9D-8698DD2E7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58280" y="6324480"/>
            <a:ext cx="914400" cy="290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flipH="1">
            <a:off x="-360" y="65530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10480" y="6553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8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08000" y="652464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llaborationstreffen DELTA-COSY-G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ortrag zum Kollaborationstreffen DELTA-COSY-G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PM System am SIS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5013360"/>
            <a:ext cx="266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vin La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SI - Strahldiagn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face of GSI BPM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1339920"/>
            <a:ext cx="2664000" cy="5040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60360" y="1844640"/>
            <a:ext cx="16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HD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90920" y="155592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90920" y="22035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860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27795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068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87320" y="126684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X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87320" y="1914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Y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6600" y="357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verload Status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86960" y="4221000"/>
            <a:ext cx="199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erload Status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64720" y="249228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720" y="277956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64720" y="3068640"/>
            <a:ext cx="833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rf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6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33559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4508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515628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7880" y="486900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nsity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06920" y="494028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MS of sum of all plate signals. Is represented by 16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01160" y="141120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451640" y="1266840"/>
          <a:ext cx="3430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26684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7451640" y="1916280"/>
          <a:ext cx="3430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191628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501160" y="20606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48240" y="3645000"/>
            <a:ext cx="36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bit for each plate. Set when Bunch signal is too hi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48240" y="4292640"/>
            <a:ext cx="36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bit for each plate. Set when Bunch signal is too l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360" y="3357720"/>
            <a:ext cx="790560" cy="10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573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07640" y="292428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face of GSI BPM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1339920"/>
            <a:ext cx="2664000" cy="5040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1844640"/>
            <a:ext cx="16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HD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2924280"/>
            <a:ext cx="244944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tenc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R: 127 cy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 cycles for Position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4 cycles for Position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8 cycles for Int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90920" y="155592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90920" y="22035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3860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2360" y="27795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360" y="3068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87320" y="126684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X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87320" y="1914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Y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6600" y="357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verload Status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86960" y="4221000"/>
            <a:ext cx="199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erload Status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64720" y="249228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64720" y="277956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64720" y="3068640"/>
            <a:ext cx="833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rf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6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33559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4508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90920" y="515628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57880" y="486900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nsity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90920" y="5587920"/>
            <a:ext cx="201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0920" y="5875200"/>
            <a:ext cx="201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61120" y="529920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X 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61120" y="558792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Y 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0920" y="6164280"/>
            <a:ext cx="201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0760" y="587520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PM Packet 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494028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MS of sum of all plate signals. Is represented by 16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01160" y="141120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451640" y="1266840"/>
          <a:ext cx="3430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26684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7451640" y="1916280"/>
          <a:ext cx="3430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191628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5501160" y="20606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48240" y="3645000"/>
            <a:ext cx="36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bit for each plate. Set when Bunch signal is too hi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48240" y="4292640"/>
            <a:ext cx="36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bit for each plate. Set when Bunch signal is too l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06920" y="601992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dy after Intensity has been calcul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33920" y="5589720"/>
            <a:ext cx="24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81 cycles latency ( ≈ 1.5µ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115640" y="5877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360" y="3357720"/>
            <a:ext cx="790560" cy="10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573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7640" y="292428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50920" y="2492280"/>
            <a:ext cx="6553440" cy="3745080"/>
          </a:xfrm>
          <a:prstGeom prst="rect">
            <a:avLst/>
          </a:prstGeom>
          <a:solidFill>
            <a:srgbClr val="fcfc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71640" y="3789360"/>
            <a:ext cx="934920" cy="107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aflow and Controlling inside Lib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708280"/>
            <a:ext cx="108108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08360" y="3789360"/>
            <a:ext cx="3384360" cy="216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79640" y="1701720"/>
            <a:ext cx="828360" cy="316872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79640" y="2638440"/>
            <a:ext cx="1008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AD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4x 14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125 MSa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4360" y="386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Us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92360" y="2709720"/>
            <a:ext cx="2700360" cy="576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270828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History Buffer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for 256 MB DDR RAM (0.25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56360" y="2709720"/>
            <a:ext cx="1260720" cy="3240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0" y="32148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Gb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4000" y="1701720"/>
            <a:ext cx="5653080" cy="50328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1700280"/>
            <a:ext cx="36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Single Board Computer (S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running generic server to build interface for F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280" y="4222800"/>
            <a:ext cx="3097080" cy="1584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00360" y="4870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587700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589720"/>
            <a:ext cx="280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30064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0" y="501336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rt (Arm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530064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op (Trigger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558972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 (System Clock Inpu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92428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nalogue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4005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520" y="1197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2360" y="2637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050920" y="2492280"/>
            <a:ext cx="6553440" cy="3745080"/>
          </a:xfrm>
          <a:prstGeom prst="rect">
            <a:avLst/>
          </a:prstGeom>
          <a:solidFill>
            <a:srgbClr val="fcfc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71640" y="3789360"/>
            <a:ext cx="934920" cy="107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84720" y="3284640"/>
            <a:ext cx="122400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49840" y="5948280"/>
            <a:ext cx="1225440" cy="576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aflow and Controlling inside Lib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708280"/>
            <a:ext cx="108108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08360" y="3789360"/>
            <a:ext cx="3384360" cy="216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79640" y="1701720"/>
            <a:ext cx="828360" cy="316872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79640" y="2638440"/>
            <a:ext cx="1008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AD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4x 14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125 MSa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24360" y="386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Us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92360" y="2709720"/>
            <a:ext cx="2700360" cy="576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92360" y="270828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History Buffer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for 256 MB DDR RAM (0.25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56360" y="2709720"/>
            <a:ext cx="1260720" cy="3240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28000" y="32148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Gb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64000" y="1701720"/>
            <a:ext cx="5653080" cy="50328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35280" y="1700280"/>
            <a:ext cx="36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Single Board Computer (S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running generic server to build interface for F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51280" y="4222800"/>
            <a:ext cx="3097080" cy="1584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00360" y="4870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87700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5589720"/>
            <a:ext cx="280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530064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0" y="501336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rt (Arm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440" y="530064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op (Trigger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58972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 (System Clock Inpu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92720" y="2638440"/>
            <a:ext cx="863640" cy="719280"/>
          </a:xfrm>
          <a:prstGeom prst="rightArrow">
            <a:avLst>
              <a:gd name="adj1" fmla="val 50000"/>
              <a:gd name="adj2" fmla="val 30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92720" y="4078440"/>
            <a:ext cx="863640" cy="863280"/>
          </a:xfrm>
          <a:prstGeom prst="rightArrow">
            <a:avLst>
              <a:gd name="adj1" fmla="val 50000"/>
              <a:gd name="adj2" fmla="val 250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17080" y="3933720"/>
            <a:ext cx="826920" cy="792360"/>
          </a:xfrm>
          <a:prstGeom prst="rightArrow">
            <a:avLst>
              <a:gd name="adj1" fmla="val 50000"/>
              <a:gd name="adj2" fmla="val 2609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92428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nalogue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35280" y="4005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00720" y="33577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x 16 bi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84720" y="2205000"/>
            <a:ext cx="122400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00720" y="227664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ff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19640" y="278136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ff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9640" y="429408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PM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67280" y="60213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MC IO 24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9440" y="4149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00"/>
                </a:solidFill>
                <a:latin typeface="Arial"/>
              </a:rPr>
              <a:t>G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03640" y="1197000"/>
            <a:ext cx="938520" cy="503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5126040" y="1217160"/>
            <a:ext cx="64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Fast 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520" y="1197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2360" y="2637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050920" y="2492280"/>
            <a:ext cx="6553440" cy="3745080"/>
          </a:xfrm>
          <a:prstGeom prst="rect">
            <a:avLst/>
          </a:prstGeom>
          <a:solidFill>
            <a:srgbClr val="fcfc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71640" y="3789360"/>
            <a:ext cx="934920" cy="107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3284640"/>
            <a:ext cx="122400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49840" y="5948280"/>
            <a:ext cx="1225440" cy="576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aflow and Controlling inside Lib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708280"/>
            <a:ext cx="108108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08360" y="3789360"/>
            <a:ext cx="3384360" cy="216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79640" y="1701720"/>
            <a:ext cx="828360" cy="316872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79640" y="2638440"/>
            <a:ext cx="1008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AD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4x 14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125 MSa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24360" y="386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Us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2360" y="2709720"/>
            <a:ext cx="2700360" cy="576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270828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History Buffer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for 256 MB DDR RAM (0.25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56360" y="2709720"/>
            <a:ext cx="1260720" cy="3240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28000" y="32148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Gb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4000" y="1701720"/>
            <a:ext cx="5653080" cy="50328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35280" y="1700280"/>
            <a:ext cx="36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Single Board Computer (S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running generic server to build interface for F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51280" y="4222800"/>
            <a:ext cx="3097080" cy="1584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00360" y="4870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587700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5589720"/>
            <a:ext cx="280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30064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0" y="501336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rt (Arm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-1440" y="530064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op (Trigger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558972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 (System Clock Inpu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797440" y="328464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92720" y="2638440"/>
            <a:ext cx="863640" cy="719280"/>
          </a:xfrm>
          <a:prstGeom prst="rightArrow">
            <a:avLst>
              <a:gd name="adj1" fmla="val 50000"/>
              <a:gd name="adj2" fmla="val 30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92720" y="4078440"/>
            <a:ext cx="863640" cy="863280"/>
          </a:xfrm>
          <a:prstGeom prst="rightArrow">
            <a:avLst>
              <a:gd name="adj1" fmla="val 50000"/>
              <a:gd name="adj2" fmla="val 250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3933720"/>
            <a:ext cx="826920" cy="792360"/>
          </a:xfrm>
          <a:prstGeom prst="rightArrow">
            <a:avLst>
              <a:gd name="adj1" fmla="val 50000"/>
              <a:gd name="adj2" fmla="val 2609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97440" y="220500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92428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nalogue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35280" y="4005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08360" y="2206800"/>
            <a:ext cx="611280" cy="1582560"/>
          </a:xfrm>
          <a:prstGeom prst="upDownArrow">
            <a:avLst>
              <a:gd name="adj1" fmla="val 50000"/>
              <a:gd name="adj2" fmla="val 515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641680" y="28393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00720" y="33577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x 16 bi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84720" y="2205000"/>
            <a:ext cx="122400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25080" y="227664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25080" y="34290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00720" y="227664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ff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19640" y="278136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ff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9640" y="429408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PM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720" y="5662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92720" y="5230800"/>
            <a:ext cx="8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ol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7280" y="60213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MC IO 24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9440" y="4149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00"/>
                </a:solidFill>
                <a:latin typeface="Arial"/>
              </a:rPr>
              <a:t>G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3640" y="1197000"/>
            <a:ext cx="938520" cy="503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5126040" y="1217160"/>
            <a:ext cx="64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Fast 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92360" y="2205000"/>
            <a:ext cx="649440" cy="503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3483360" y="228600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08720" y="2205000"/>
            <a:ext cx="649440" cy="503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7299720" y="228600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520" y="1197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2360" y="2637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igabit Etherne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0920" y="1628640"/>
            <a:ext cx="8066160" cy="1293840"/>
            <a:chOff x="250920" y="1628640"/>
            <a:chExt cx="8066160" cy="1293840"/>
          </a:xfrm>
        </p:grpSpPr>
        <p:sp>
          <p:nvSpPr>
            <p:cNvPr id="382" name=""/>
            <p:cNvSpPr/>
            <p:nvPr/>
          </p:nvSpPr>
          <p:spPr>
            <a:xfrm>
              <a:off x="4284720" y="2058840"/>
              <a:ext cx="100836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93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1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09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2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60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31640" y="2058840"/>
              <a:ext cx="801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ver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68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76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46560" y="2058840"/>
              <a:ext cx="8863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Under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88360" y="2203200"/>
              <a:ext cx="34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2000" y="2203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3640" y="22032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39640" y="22032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47600" y="220320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83960" y="220320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09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589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8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76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84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93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301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09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17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836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84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4872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6472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00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08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16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6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2544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1640" y="162864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PM 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igabit Etherne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79280" y="3429000"/>
            <a:ext cx="8713800" cy="1609200"/>
            <a:chOff x="179280" y="3429000"/>
            <a:chExt cx="8713800" cy="1609200"/>
          </a:xfrm>
        </p:grpSpPr>
        <p:sp>
          <p:nvSpPr>
            <p:cNvPr id="418" name=""/>
            <p:cNvSpPr/>
            <p:nvPr/>
          </p:nvSpPr>
          <p:spPr>
            <a:xfrm>
              <a:off x="252360" y="3885840"/>
              <a:ext cx="934920" cy="57456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87280" y="3885840"/>
              <a:ext cx="793800" cy="57456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79280" y="3885840"/>
              <a:ext cx="865440" cy="57456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44720" y="3885840"/>
              <a:ext cx="863640" cy="57456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8360" y="3885840"/>
              <a:ext cx="865080" cy="57456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9280" y="3885840"/>
              <a:ext cx="1079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Header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TH/I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16000" y="4030560"/>
              <a:ext cx="88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8000" y="3885840"/>
              <a:ext cx="10047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66400" y="3885840"/>
              <a:ext cx="7246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79280" y="3885840"/>
              <a:ext cx="7246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72000" y="3885840"/>
              <a:ext cx="86508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37080" y="3885840"/>
              <a:ext cx="86508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00720" y="3885840"/>
              <a:ext cx="28728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28000" y="3885840"/>
              <a:ext cx="865080" cy="57456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00360" y="3885840"/>
              <a:ext cx="10224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PM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#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79920" y="388584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64360" y="3885840"/>
              <a:ext cx="86508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88000" y="3885840"/>
              <a:ext cx="28728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76720" y="3885840"/>
              <a:ext cx="28764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00720" y="402876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88000" y="402876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76720" y="402876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64000" y="3885840"/>
              <a:ext cx="10224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PM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92720" y="3885840"/>
              <a:ext cx="10224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PM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#67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236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8728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7928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4472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0836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7200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3708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2944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89308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3280" y="448452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60360" y="44622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52360" y="44622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916000" y="44622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79640" y="44622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44360" y="446220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100720" y="44622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08000" y="446220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0072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72000" y="47494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028000" y="47494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14240" y="4749480"/>
              <a:ext cx="208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678 * 12 bytes = 8136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72000" y="474948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7320" y="342900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PM Frame (8192 byt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50920" y="1628640"/>
            <a:ext cx="8066160" cy="1293840"/>
            <a:chOff x="250920" y="1628640"/>
            <a:chExt cx="8066160" cy="1293840"/>
          </a:xfrm>
        </p:grpSpPr>
        <p:sp>
          <p:nvSpPr>
            <p:cNvPr id="466" name=""/>
            <p:cNvSpPr/>
            <p:nvPr/>
          </p:nvSpPr>
          <p:spPr>
            <a:xfrm>
              <a:off x="4284720" y="2058840"/>
              <a:ext cx="100836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93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01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09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2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60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31640" y="2058840"/>
              <a:ext cx="801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ver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68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76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46560" y="2058840"/>
              <a:ext cx="8863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Under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88360" y="2203200"/>
              <a:ext cx="34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52000" y="2203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3640" y="22032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39640" y="22032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7600" y="220320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83960" y="220320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09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589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68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76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84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93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01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09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17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836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84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872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6472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00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08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16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6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2544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640" y="162864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PM 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28600" y="5373720"/>
            <a:ext cx="5840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DP used as Transport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imum latency of position data: 0.9ms (@0.8MHz acc. frequenc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879640" y="1197000"/>
            <a:ext cx="6264360" cy="523224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frastructure for Data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9280" y="1628640"/>
            <a:ext cx="266400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data output of ≈ 68 MB/s per Libera via Gbit Ethernet (5.6 MHz acc. freq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Liberas per Concentrator Serv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data input of ≈ 400 MB/s per Concentrator Server via 10 GBit Ethern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centrator Server corrects diffrences of amplifiers (calibration) and uses Pick-Up coefficients and offsets for final position calcul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centrator Server uses Timestamps for error corr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PM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7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PMs at SIS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on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lculation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eline Resta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faces for Posi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flow and Controlling inside Li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gabit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on Data Acqui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56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170160" y="1447920"/>
            <a:ext cx="2801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6163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2376360" y="4641840"/>
          <a:ext cx="1396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464184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1403280" y="4006800"/>
            <a:ext cx="647640" cy="432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76360" y="40784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403280" y="4511520"/>
            <a:ext cx="647640" cy="432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76360" y="45831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03280" y="5087880"/>
            <a:ext cx="647640" cy="432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76360" y="51595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03280" y="5664240"/>
            <a:ext cx="647640" cy="43164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76360" y="57355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400536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0360" y="40784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ft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1280" y="4508640"/>
            <a:ext cx="792000" cy="433080"/>
          </a:xfrm>
          <a:prstGeom prst="rightArrow">
            <a:avLst>
              <a:gd name="adj1" fmla="val 50000"/>
              <a:gd name="adj2" fmla="val 457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0720" y="45813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ght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1280" y="508464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9640" y="515772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p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1280" y="566100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0720" y="573408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om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0920" y="4005360"/>
            <a:ext cx="505080" cy="433440"/>
          </a:xfrm>
          <a:prstGeom prst="rightArrow">
            <a:avLst>
              <a:gd name="adj1" fmla="val 50000"/>
              <a:gd name="adj2" fmla="val 291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25080" y="4078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50920" y="4508640"/>
            <a:ext cx="505080" cy="433080"/>
          </a:xfrm>
          <a:prstGeom prst="rightArrow">
            <a:avLst>
              <a:gd name="adj1" fmla="val 50000"/>
              <a:gd name="adj2" fmla="val 291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25440" y="458136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0920" y="5084640"/>
            <a:ext cx="505080" cy="433440"/>
          </a:xfrm>
          <a:prstGeom prst="rightArrow">
            <a:avLst>
              <a:gd name="adj1" fmla="val 50000"/>
              <a:gd name="adj2" fmla="val 291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24000" y="5157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0920" y="5661000"/>
            <a:ext cx="505080" cy="433440"/>
          </a:xfrm>
          <a:prstGeom prst="rightArrow">
            <a:avLst>
              <a:gd name="adj1" fmla="val 50000"/>
              <a:gd name="adj2" fmla="val 291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25440" y="57340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56000" y="4005360"/>
            <a:ext cx="934920" cy="1008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56000" y="5086440"/>
            <a:ext cx="934920" cy="1008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667640" y="5445000"/>
          <a:ext cx="31572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45000"/>
                    <a:ext cx="315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2556000" y="5373720"/>
          <a:ext cx="3301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5373720"/>
                    <a:ext cx="330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2556000" y="4294080"/>
          <a:ext cx="339480" cy="3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4294080"/>
                    <a:ext cx="3394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3132000" y="5302080"/>
          <a:ext cx="36540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2000" y="5302080"/>
                    <a:ext cx="3654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3132000" y="4222800"/>
          <a:ext cx="36540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4222800"/>
                    <a:ext cx="365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6516720" y="4653000"/>
          <a:ext cx="1417680" cy="1946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16720" y="4653000"/>
                    <a:ext cx="141768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284508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45080" y="4294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11280" y="1700280"/>
            <a:ext cx="1293840" cy="1008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56000" y="1916280"/>
            <a:ext cx="102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ndow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03280" y="1700280"/>
            <a:ext cx="647640" cy="20890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547640" y="2492280"/>
          <a:ext cx="39564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47640" y="2492280"/>
                    <a:ext cx="395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611280" y="170028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0360" y="17733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ft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11280" y="220356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0720" y="227664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ght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1280" y="277956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9640" y="285264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p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1280" y="335592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0720" y="342900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om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4005360"/>
            <a:ext cx="647640" cy="503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PMs at SIS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252360" y="1341360"/>
            <a:ext cx="5808600" cy="5043600"/>
            <a:chOff x="-252360" y="1341360"/>
            <a:chExt cx="5808600" cy="50436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-252360" y="1341360"/>
              <a:ext cx="5808600" cy="50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19280" y="1773360"/>
              <a:ext cx="4248000" cy="41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253520" y="2276640"/>
            <a:ext cx="34513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mferen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6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j. 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ran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 MeV → 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.R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8 → 5.6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c. harmoni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 (no. of bun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nching f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mp dur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1.5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. of BP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2000" y="13860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S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227640" y="1341360"/>
            <a:ext cx="100836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PMs at SIS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252360" y="1341360"/>
            <a:ext cx="5808600" cy="5043600"/>
            <a:chOff x="-252360" y="1341360"/>
            <a:chExt cx="5808600" cy="504360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-252360" y="1341360"/>
              <a:ext cx="5808600" cy="50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19280" y="1773360"/>
              <a:ext cx="4248000" cy="41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253520" y="2276640"/>
            <a:ext cx="34513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mferen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6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j. 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ran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 MeV → 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.R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8 → 5.6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c. harmoni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 (no. of bun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nching f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mp dur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1.5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. of BP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15280" y="14860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15280" y="220680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70560" y="16304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91280" y="16304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83280" y="18464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1280" y="18464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730920" y="1270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30920" y="22068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83280" y="184644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78560" y="184644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30920" y="127008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2638440"/>
            <a:ext cx="576360" cy="50328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3640" y="2638440"/>
            <a:ext cx="576360" cy="50328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91280" y="2638440"/>
            <a:ext cx="576360" cy="50328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38920" y="2638440"/>
            <a:ext cx="576360" cy="50328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028000" y="126972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38920" y="127008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83280" y="3141720"/>
            <a:ext cx="1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30920" y="3141720"/>
            <a:ext cx="180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78560" y="3141720"/>
            <a:ext cx="180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3429000"/>
            <a:ext cx="2232000" cy="1008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28000" y="3141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00720" y="364644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4x 14 bit A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125 MSa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Virtex II Pro FP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256 MB DDR 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38560" y="342900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Libera Had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443700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4560" y="450864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sitio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000" y="13860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S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4869000"/>
            <a:ext cx="33130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data for each bunch at each BPM. Allows measurement o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nch by Bun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losed Or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urn by 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1773360"/>
            <a:ext cx="14580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73440" y="148428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B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sition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141720"/>
            <a:ext cx="273528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Pick-Up coeffici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rizontal: 171 mm to 174.1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ical: 50.3 mm to 51.5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Pick-Up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rizontal: -0.53 mm to 1.64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ical: -0.23 to 0.18 (verti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916280"/>
          <a:ext cx="207504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20750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sition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5688000" cy="3703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3141720"/>
            <a:ext cx="273528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Pick-Up coeffici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rizontal: 171 mm to 174.1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ical: 50.3 mm to 51.5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Pick-Up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rizontal: -0.53 mm to 1.64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ical: -0.23 to 0.18 (verti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916280"/>
          <a:ext cx="2075040" cy="99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916280"/>
                    <a:ext cx="20750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348000" y="501336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gration is only done over the bunch. Therfore an integration window must be gener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aseline Resta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42920" y="4581360"/>
          <a:ext cx="295272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581360"/>
                    <a:ext cx="29527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8424720" cy="224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16200000">
            <a:off x="-164520" y="283824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bitrary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07664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mple 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2349360"/>
            <a:ext cx="1297080" cy="2303640"/>
          </a:xfrm>
          <a:custGeom>
            <a:avLst/>
            <a:gdLst/>
            <a:ahLst/>
            <a:rect l="l" t="t" r="r" b="b"/>
            <a:pathLst>
              <a:path w="817" h="1451">
                <a:moveTo>
                  <a:pt x="817" y="0"/>
                </a:moveTo>
                <a:cubicBezTo>
                  <a:pt x="612" y="219"/>
                  <a:pt x="408" y="438"/>
                  <a:pt x="272" y="680"/>
                </a:cubicBezTo>
                <a:cubicBezTo>
                  <a:pt x="136" y="922"/>
                  <a:pt x="23" y="1330"/>
                  <a:pt x="0" y="14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8640" y="4653000"/>
            <a:ext cx="286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period of T: 1.25µs (0.8K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 T/2 = 625ns = 79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61200" y="1484280"/>
            <a:ext cx="370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nerated Gaussian Signal (1.5MHz perio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2920" y="5472000"/>
            <a:ext cx="4493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stant delay of 127 i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sults in a latency of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µs for integral of a bun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lay can be reduced to 79 cycles (632ns latency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24720" cy="2247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16200000">
            <a:off x="-164520" y="283824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bitrary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076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ylce nr. of ADC c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98560" y="3716280"/>
            <a:ext cx="7705800" cy="142920"/>
            <a:chOff x="898560" y="3716280"/>
            <a:chExt cx="7705800" cy="142920"/>
          </a:xfrm>
        </p:grpSpPr>
        <p:sp>
          <p:nvSpPr>
            <p:cNvPr id="119" name=""/>
            <p:cNvSpPr/>
            <p:nvPr/>
          </p:nvSpPr>
          <p:spPr>
            <a:xfrm>
              <a:off x="190656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1492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1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59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600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0400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1236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03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1164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4800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5636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6436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99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07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98560" y="385920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03280" y="371628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06560" y="385920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11640" y="371628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4920" y="3859200"/>
              <a:ext cx="433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48000" y="371628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1280" y="385920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56360" y="371628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59280" y="385920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64360" y="3716280"/>
              <a:ext cx="4316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6000" y="385920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71628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04000" y="385920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07280" y="371628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2360" y="385920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15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15280" y="3716280"/>
              <a:ext cx="289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812000" y="2205000"/>
            <a:ext cx="50328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2073240"/>
            <a:ext cx="5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F c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187280" y="3860640"/>
            <a:ext cx="21600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436572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rf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474560" y="2852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4560" y="249228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195280" y="3284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335772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4365720"/>
            <a:ext cx="71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rf(n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2492280"/>
            <a:ext cx="72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(n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3284640"/>
            <a:ext cx="71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(n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66920" y="3860280"/>
            <a:ext cx="144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2920" y="285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32000" y="3213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4651200"/>
            <a:ext cx="160956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rf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1(n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t‘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1(n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rf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2(n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t‘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2(n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rf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50133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 error detection, measurement of bunch frequency and reconstruction of integration window length, three timestamp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87320" y="472428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 bit absolut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40400" y="551664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 bit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face of GSI BPM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339920"/>
            <a:ext cx="2664000" cy="5040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0360" y="1844640"/>
            <a:ext cx="16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HD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90920" y="155592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90920" y="22035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27795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068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87320" y="126684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X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87320" y="1914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Y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720" y="249228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4720" y="277956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720" y="3068640"/>
            <a:ext cx="833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rf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6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3559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1160" y="141120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451640" y="1266840"/>
          <a:ext cx="3430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26684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451640" y="1916280"/>
          <a:ext cx="3430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191628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501160" y="20606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60" y="3357720"/>
            <a:ext cx="790560" cy="10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573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07640" y="292428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4:34:14Z</dcterms:created>
  <dc:creator>peters</dc:creator>
  <dc:description/>
  <dc:language>en-US</dc:language>
  <cp:lastModifiedBy>Kevin Lang</cp:lastModifiedBy>
  <dcterms:modified xsi:type="dcterms:W3CDTF">2009-11-27T09:58:07Z</dcterms:modified>
  <cp:revision>54</cp:revision>
  <dc:subject/>
  <dc:title>PowerPoint-Präsentation</dc:title>
</cp:coreProperties>
</file>